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move the slide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4403-5CA5-4D51-BABC-8BC00C254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AEF0-6555-46DA-9FD5-DDA13D25C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SP Conference 18/19 Augus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A147-0FB5-4BDA-BA3C-451C2EA4B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7680" y="7095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09720" y="4370040"/>
            <a:ext cx="50371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2651-DF9C-40BC-AAA0-11379756F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F355-5829-4AE2-801E-3BEF1B174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3EB5-74A8-4EF7-B26A-B5B71B631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6A46-DCE3-4201-8453-3A24B2E73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90E4-8CD5-435F-9BFE-343611D87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93A1-826B-48A2-A143-108E456C0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238C-AC08-4474-B9BE-E3C6C761F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AFA7-1D11-46A3-8FDB-84BB78E8C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8377-EB83-4BBB-A88A-16FBF78C3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A425-54E9-47A1-8AF2-907731723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C7C7-8FF6-4EE9-8784-9BE1F85FE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A7F6-B0E2-408A-A840-A0F9AD5C6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D76C-E886-4814-A925-A51B1EB51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84AA-710B-40DB-B3BA-530CD42D4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4BD4-35D4-4304-A78A-AB86E5124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1E81-0F13-4817-A5AE-C24B89FD0E2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5A2B-CE17-48D1-B4BF-F6DFF90550D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7F4A-C23F-4A74-8097-4B8D2525696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00cc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6D4F-05CD-4670-80D5-89A8D930B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hange this to reflect your PD le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7C77-3BC6-402C-8AEA-611D8CDC75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030E-D702-45B6-B346-B4988B49A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FE5E-263F-4E6B-A3A3-BAAC11B06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C7B0-009C-4EDA-A87D-721D170C6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87FDE-C0DE-47FB-B342-9AB148C76E5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1246E-3636-45EE-9756-829827295D6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08111-60FD-4969-968D-B4F0F994D0A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EF330-0990-4F94-9789-1DEFEAAD803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1561F-8630-4D26-9113-152E8520CD3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826DC-9FFA-46F8-AA6E-9DAC7C97215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93866-8E4F-458A-8170-847AA677737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6296C-7B71-49BA-9E10-D34577AC3E6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7D44D-AEC7-4867-89C1-791FA73B7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E4B-8126-4C34-91F0-FC01F5E0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4F8-F15C-433F-8D5C-F0605475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58F-912B-4023-AA80-D6BE8683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938-12D2-4823-BD6B-B7E57C06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D03-6353-41BA-AEED-3294D94F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B60-6EFD-4104-81C6-0C69F30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15D-E63A-4BA3-AE1A-30499E73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232-A3C0-4D29-87BF-6C5710A8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48B-1F72-4828-AFF1-72F775BE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81F-3B86-43EA-97DD-9B1E37E6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734-88DB-49F6-BA65-6A4B8254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853-AB91-4388-ABB4-3D8BCA19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9D488-DD1D-4675-9115-5715F29D683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F28A6-FEF0-4737-BA23-47D4FA8CEA7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A8E48-7A64-465F-90F7-962091BCF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2011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114" name="Straight Connector 4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155" name="Straight Connector 9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1494-9E93-4080-8E34-0CEF3E488A72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2011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2011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7772400" y="380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2011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8C0B-41C5-4B74-A5D0-0DD74C33C31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ool%20Timer.lnk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gion1rttt.wikispaces.com/" TargetMode="External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../Videos/RealPlayer%20Downloads/How%20Coaching%20Works%20-%20YouTube.flv" TargetMode="External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oaching/Planning%20Conversation%20Example.wlm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Coaching/Reflection%20Conversation%20Example.wlm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819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"/>
                <a:ea typeface="Arial"/>
              </a:rPr>
              <a:t>Cognitive Coaching</a:t>
            </a:r>
            <a:br>
              <a:rPr sz="4200"/>
            </a:br>
            <a:br>
              <a:rPr sz="4200"/>
            </a:b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Professional Conversations Focused on Educator Growth and Improved Student Lear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457e"/>
                </a:solidFill>
                <a:latin typeface="Arial"/>
                <a:ea typeface="Arial"/>
              </a:rPr>
              <a:t>Pitt County Schools</a:t>
            </a:r>
            <a:br>
              <a:rPr sz="2400"/>
            </a:br>
            <a:r>
              <a:rPr b="0" lang="en-US" sz="2400" spc="-1" strike="noStrike">
                <a:solidFill>
                  <a:srgbClr val="00457e"/>
                </a:solidFill>
                <a:latin typeface="Arial"/>
                <a:ea typeface="Arial"/>
              </a:rPr>
              <a:t>December 9, 2012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 Bold"/>
              </a:rPr>
              <a:t>To effectively engage people, it is helpful to identify two main subsystems in the brain.</a:t>
            </a:r>
            <a:br>
              <a:rPr sz="4000"/>
            </a:b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62120" y="914400"/>
            <a:ext cx="807408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868680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9754-7DE9-4954-9E25-5A5B7CBA502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3043080" y="2505240"/>
            <a:ext cx="2832120" cy="2219040"/>
          </a:xfrm>
          <a:prstGeom prst="rect">
            <a:avLst/>
          </a:prstGeom>
          <a:ln w="0">
            <a:noFill/>
          </a:ln>
        </p:spPr>
      </p:pic>
      <p:sp>
        <p:nvSpPr>
          <p:cNvPr id="385" name="Line 7"/>
          <p:cNvSpPr/>
          <p:nvPr/>
        </p:nvSpPr>
        <p:spPr>
          <a:xfrm flipV="1">
            <a:off x="2446200" y="3512880"/>
            <a:ext cx="1463760" cy="5634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851040" y="3789360"/>
            <a:ext cx="17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8dc6ff"/>
                </a:solidFill>
                <a:latin typeface="Arial"/>
                <a:ea typeface="ＭＳ Ｐゴシック"/>
              </a:rPr>
              <a:t>Blu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8dc6ff"/>
                </a:solidFill>
                <a:latin typeface="Arial"/>
                <a:ea typeface="ＭＳ Ｐゴシック"/>
              </a:rPr>
              <a:t>- approximates the newer part of the b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565200" y="1773360"/>
            <a:ext cx="234468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ffiliation, generosity, good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efl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Options consid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maginative/cre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er order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low/resource int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anages impulsive des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abels emotional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Not ‘fully functional’ until adul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eat of optim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 flipH="1" flipV="1">
            <a:off x="4704840" y="3944520"/>
            <a:ext cx="1994040" cy="2761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6681960" y="3995640"/>
            <a:ext cx="2277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d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 approximates the “old” part of the b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6299280" y="1916280"/>
            <a:ext cx="2262240" cy="20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ocused on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nsitive to th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“fight/f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sistan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w order learning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st/efficient/instin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impulsive des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nger/fear/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ly developed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t of pessim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6043680" y="1523880"/>
            <a:ext cx="310032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he Red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ocused on 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nsitive to th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“fight/fligh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sistant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w order learning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st/efficient/instin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impulsive des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nger/fear/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ly developed at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152280" y="1676520"/>
            <a:ext cx="338940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he Blu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ffiliation, generosity, good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efl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Options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maginative/cre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er orde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low/resource in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anages impulsive des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Not ‘fully functional’ until adul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3" descr=""/>
          <p:cNvPicPr/>
          <p:nvPr/>
        </p:nvPicPr>
        <p:blipFill>
          <a:blip r:embed="rId2"/>
          <a:stretch/>
        </p:blipFill>
        <p:spPr>
          <a:xfrm>
            <a:off x="3043080" y="2505240"/>
            <a:ext cx="283212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1DD3-B019-47C4-94E8-44A80971C42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2"/>
          <p:cNvGrpSpPr/>
          <p:nvPr/>
        </p:nvGrpSpPr>
        <p:grpSpPr>
          <a:xfrm>
            <a:off x="2819520" y="1295280"/>
            <a:ext cx="964800" cy="423720"/>
            <a:chOff x="2819520" y="1295280"/>
            <a:chExt cx="964800" cy="423720"/>
          </a:xfrm>
        </p:grpSpPr>
        <p:sp>
          <p:nvSpPr>
            <p:cNvPr id="396" name="Rectangle 3"/>
            <p:cNvSpPr/>
            <p:nvPr/>
          </p:nvSpPr>
          <p:spPr>
            <a:xfrm>
              <a:off x="3001320" y="1374480"/>
              <a:ext cx="55440" cy="34452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"/>
            <p:cNvSpPr/>
            <p:nvPr/>
          </p:nvSpPr>
          <p:spPr>
            <a:xfrm>
              <a:off x="2819520" y="1355400"/>
              <a:ext cx="55800" cy="36360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"/>
            <p:cNvSpPr/>
            <p:nvPr/>
          </p:nvSpPr>
          <p:spPr>
            <a:xfrm>
              <a:off x="3728520" y="1295280"/>
              <a:ext cx="55800" cy="42372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6"/>
            <p:cNvSpPr/>
            <p:nvPr/>
          </p:nvSpPr>
          <p:spPr>
            <a:xfrm>
              <a:off x="3183120" y="1311120"/>
              <a:ext cx="55440" cy="40788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7"/>
            <p:cNvSpPr/>
            <p:nvPr/>
          </p:nvSpPr>
          <p:spPr>
            <a:xfrm>
              <a:off x="3364920" y="1385640"/>
              <a:ext cx="55800" cy="33336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8"/>
            <p:cNvSpPr/>
            <p:nvPr/>
          </p:nvSpPr>
          <p:spPr>
            <a:xfrm>
              <a:off x="3546720" y="1341000"/>
              <a:ext cx="55800" cy="37800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8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961080" cy="313200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29"/>
          <p:cNvSpPr/>
          <p:nvPr/>
        </p:nvSpPr>
        <p:spPr>
          <a:xfrm>
            <a:off x="3962520" y="533520"/>
            <a:ext cx="476280" cy="1387440"/>
          </a:xfrm>
          <a:prstGeom prst="upArrow">
            <a:avLst>
              <a:gd name="adj1" fmla="val 50000"/>
              <a:gd name="adj2" fmla="val 67230"/>
            </a:avLst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0"/>
          <p:cNvSpPr/>
          <p:nvPr/>
        </p:nvSpPr>
        <p:spPr>
          <a:xfrm flipV="1">
            <a:off x="4772160" y="4562640"/>
            <a:ext cx="476280" cy="1387440"/>
          </a:xfrm>
          <a:prstGeom prst="upArrow">
            <a:avLst>
              <a:gd name="adj1" fmla="val 50000"/>
              <a:gd name="adj2" fmla="val 6723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1"/>
          <p:cNvSpPr/>
          <p:nvPr/>
        </p:nvSpPr>
        <p:spPr>
          <a:xfrm>
            <a:off x="2514600" y="4648320"/>
            <a:ext cx="222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inimizing the Red Zone</a:t>
            </a:r>
            <a:r>
              <a:rPr b="0" lang="en-AU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: reduces the activity and impact of the re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2"/>
          <p:cNvSpPr/>
          <p:nvPr/>
        </p:nvSpPr>
        <p:spPr>
          <a:xfrm>
            <a:off x="4572000" y="990720"/>
            <a:ext cx="224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Maximizing the Blue Zone</a:t>
            </a:r>
            <a:r>
              <a:rPr b="0" lang="en-A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: cognition leads broad-based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3"/>
          <p:cNvSpPr/>
          <p:nvPr/>
        </p:nvSpPr>
        <p:spPr>
          <a:xfrm>
            <a:off x="0" y="3062160"/>
            <a:ext cx="2511360" cy="1191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this combination that occurs when a person is engaged by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4"/>
          <p:cNvSpPr/>
          <p:nvPr/>
        </p:nvSpPr>
        <p:spPr>
          <a:xfrm>
            <a:off x="5717880" y="6458040"/>
            <a:ext cx="28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ww.gr8educati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5"/>
          <p:cNvGrpSpPr/>
          <p:nvPr/>
        </p:nvGrpSpPr>
        <p:grpSpPr>
          <a:xfrm>
            <a:off x="2590920" y="1066680"/>
            <a:ext cx="1447560" cy="761760"/>
            <a:chOff x="2590920" y="1066680"/>
            <a:chExt cx="1447560" cy="761760"/>
          </a:xfrm>
        </p:grpSpPr>
        <p:sp>
          <p:nvSpPr>
            <p:cNvPr id="410" name="Line 36"/>
            <p:cNvSpPr/>
            <p:nvPr/>
          </p:nvSpPr>
          <p:spPr>
            <a:xfrm>
              <a:off x="2620440" y="1828440"/>
              <a:ext cx="1418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37"/>
            <p:cNvGrpSpPr/>
            <p:nvPr/>
          </p:nvGrpSpPr>
          <p:grpSpPr>
            <a:xfrm>
              <a:off x="2590920" y="1066680"/>
              <a:ext cx="29520" cy="761760"/>
              <a:chOff x="2590920" y="1066680"/>
              <a:chExt cx="29520" cy="761760"/>
            </a:xfrm>
          </p:grpSpPr>
          <p:sp>
            <p:nvSpPr>
              <p:cNvPr id="412" name="Line 38"/>
              <p:cNvSpPr/>
              <p:nvPr/>
            </p:nvSpPr>
            <p:spPr>
              <a:xfrm flipV="1">
                <a:off x="2620440" y="1066680"/>
                <a:ext cx="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39"/>
              <p:cNvSpPr/>
              <p:nvPr/>
            </p:nvSpPr>
            <p:spPr>
              <a:xfrm flipH="1">
                <a:off x="2590920" y="173988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40"/>
              <p:cNvSpPr/>
              <p:nvPr/>
            </p:nvSpPr>
            <p:spPr>
              <a:xfrm flipH="1">
                <a:off x="2590920" y="11905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41"/>
              <p:cNvSpPr/>
              <p:nvPr/>
            </p:nvSpPr>
            <p:spPr>
              <a:xfrm flipH="1">
                <a:off x="2590920" y="13003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42"/>
              <p:cNvSpPr/>
              <p:nvPr/>
            </p:nvSpPr>
            <p:spPr>
              <a:xfrm flipH="1">
                <a:off x="2590920" y="14101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43"/>
              <p:cNvSpPr/>
              <p:nvPr/>
            </p:nvSpPr>
            <p:spPr>
              <a:xfrm flipH="1">
                <a:off x="2590920" y="15199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44"/>
              <p:cNvSpPr/>
              <p:nvPr/>
            </p:nvSpPr>
            <p:spPr>
              <a:xfrm flipH="1">
                <a:off x="2590920" y="16297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Rectangle 45"/>
            <p:cNvSpPr/>
            <p:nvPr/>
          </p:nvSpPr>
          <p:spPr>
            <a:xfrm>
              <a:off x="2708640" y="1261800"/>
              <a:ext cx="59040" cy="566640"/>
            </a:xfrm>
            <a:prstGeom prst="rect">
              <a:avLst/>
            </a:prstGeom>
            <a:solidFill>
              <a:srgbClr val="b2b6f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46"/>
          <p:cNvSpPr/>
          <p:nvPr/>
        </p:nvSpPr>
        <p:spPr>
          <a:xfrm>
            <a:off x="2133720" y="1981080"/>
            <a:ext cx="1031760" cy="2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7"/>
          <p:cNvSpPr/>
          <p:nvPr/>
        </p:nvSpPr>
        <p:spPr>
          <a:xfrm>
            <a:off x="2209680" y="2438280"/>
            <a:ext cx="598680" cy="2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9"/>
          <p:cNvSpPr/>
          <p:nvPr/>
        </p:nvSpPr>
        <p:spPr>
          <a:xfrm>
            <a:off x="6947280" y="2590920"/>
            <a:ext cx="18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a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States of Mind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24" name="Diagram 6" descr=""/>
          <p:cNvPicPr/>
          <p:nvPr/>
        </p:nvPicPr>
        <p:blipFill>
          <a:blip r:embed="rId1"/>
          <a:stretch/>
        </p:blipFill>
        <p:spPr>
          <a:xfrm>
            <a:off x="835200" y="1365120"/>
            <a:ext cx="6956280" cy="428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Efficac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544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Knowing that one has the capacity to make a difference and being willing and able to do so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Flexibilit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3520" y="1904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Knowing one has and can develop options to consider and be willing to acknowledge and demonstrate respect for empathy for diverse perspectives</a:t>
            </a: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Consciousnes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3520" y="17524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onitoring one’s own values, intentions, thoughts and behaviors and their effects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Craftsmanship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62120" y="18284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eking precision, refinement and mastery. Striving for exactness of critical thought processes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Interdependence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33520" y="18284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ributing to a common good and using group resources to enhance personal effectiveness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Five States of Mind </a:t>
            </a:r>
            <a:br>
              <a:rPr sz="4200"/>
            </a:b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Activit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09120" y="1828440"/>
            <a:ext cx="7239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Work with a partner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hoose two States of Mind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nk of “real world” example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are with the group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37" name="Picture 4" descr="C:\Users\eedwards\AppData\Local\Microsoft\Windows\Temporary Internet Files\Low\Content.IE5\1LE98742\MC900433814[1].PNG"/>
          <p:cNvPicPr/>
          <p:nvPr/>
        </p:nvPicPr>
        <p:blipFill>
          <a:blip r:embed="rId1"/>
          <a:stretch/>
        </p:blipFill>
        <p:spPr>
          <a:xfrm>
            <a:off x="6705720" y="10666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5 Minute_x000b_Break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37116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Before We Begin…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27A8-86CD-4140-A815-3AD26C008A85}" type="slidenum">
              <a:rPr b="0" lang="en-MY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57e"/>
                </a:solidFill>
                <a:latin typeface="Arial"/>
              </a:rPr>
              <a:t>visit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region1rttt.wikispaces.com/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Add this </a:t>
            </a:r>
            <a:r>
              <a:rPr b="0" i="1" lang="en-US" sz="2800" spc="-1" strike="noStrike">
                <a:solidFill>
                  <a:srgbClr val="40cf00"/>
                </a:solidFill>
                <a:latin typeface="Arial"/>
              </a:rPr>
              <a:t>wikispace</a:t>
            </a: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 to your favorites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Download and save the presentation found under “Region 1 Events”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Complete the ticket out the door at the end of the trai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buClr>
                <a:srgbClr val="1739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Effective Coaching Requires…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33520" y="1828800"/>
            <a:ext cx="2590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Trust</a:t>
            </a:r>
            <a:endParaRPr b="0" lang="en-US" sz="36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17396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Rapport</a:t>
            </a:r>
            <a:endParaRPr b="0" lang="en-US" sz="36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MP900439502.JPG"/>
          <p:cNvPicPr/>
          <p:nvPr/>
        </p:nvPicPr>
        <p:blipFill>
          <a:blip r:embed="rId4"/>
          <a:stretch/>
        </p:blipFill>
        <p:spPr>
          <a:xfrm>
            <a:off x="3124080" y="1828800"/>
            <a:ext cx="537552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omponents of Trus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09120" y="16761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eing pres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eing aware of oneself, others and the environm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eing ope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isten without judgment and with empathy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ek to understand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iew learning as mutual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onor the pers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onor the proces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Building Rappor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47" name="Picture 8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2660760" cy="381024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4140360" y="2133720"/>
            <a:ext cx="4495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mily and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tai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2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The Johari Window</a:t>
            </a:r>
            <a:br>
              <a:rPr sz="4200"/>
            </a:br>
            <a:r>
              <a:rPr b="1" i="1" lang="en-US" sz="2400" spc="-1" strike="noStrike">
                <a:solidFill>
                  <a:srgbClr val="9900cc"/>
                </a:solidFill>
                <a:latin typeface="Arial Bold"/>
              </a:rPr>
              <a:t>A Communication Tool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676520" y="2286000"/>
          <a:ext cx="6095880" cy="36273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88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buClr>
                          <a:srgbClr val="def6f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lind Sp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idden A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known A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8"/>
          <p:cNvSpPr/>
          <p:nvPr/>
        </p:nvSpPr>
        <p:spPr>
          <a:xfrm>
            <a:off x="390240" y="2666880"/>
            <a:ext cx="134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9"/>
          <p:cNvSpPr/>
          <p:nvPr/>
        </p:nvSpPr>
        <p:spPr>
          <a:xfrm>
            <a:off x="312840" y="4572000"/>
            <a:ext cx="13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k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1"/>
          <p:cNvSpPr/>
          <p:nvPr/>
        </p:nvSpPr>
        <p:spPr>
          <a:xfrm>
            <a:off x="2676240" y="160020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I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2"/>
          <p:cNvSpPr/>
          <p:nvPr/>
        </p:nvSpPr>
        <p:spPr>
          <a:xfrm>
            <a:off x="5803560" y="160020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I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Johari Activit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091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ivide into pair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Write what you know or see about your partner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are what was written with your partner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iscuss what you have learned about yourself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57" name="Picture 4" descr="C:\Users\eedwards\AppData\Local\Microsoft\Windows\Temporary Internet Files\Low\Content.IE5\1LE98742\MC900433814[1].PNG"/>
          <p:cNvPicPr/>
          <p:nvPr/>
        </p:nvPicPr>
        <p:blipFill>
          <a:blip r:embed="rId1"/>
          <a:stretch/>
        </p:blipFill>
        <p:spPr>
          <a:xfrm>
            <a:off x="7238880" y="762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160" y="2590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962"/>
                </a:solidFill>
                <a:latin typeface="Arial Bold"/>
              </a:rPr>
              <a:t>Effective Coaching Skills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990720" y="3733920"/>
            <a:ext cx="69339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“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When coaches and teachers </a:t>
            </a:r>
            <a:br>
              <a:rPr sz="3200"/>
            </a:b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nteract equally as partners, </a:t>
            </a:r>
            <a:br>
              <a:rPr sz="3200"/>
            </a:b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        good things happen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.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im K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Seven Partnership Principles 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66680" y="1828440"/>
            <a:ext cx="335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Equality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hoice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flection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ialogue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Praxi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ciprocity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62" name="Picture 5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54600" cy="32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4267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Lunch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4343400" y="744480"/>
            <a:ext cx="365760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3123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 "How Coaching Works"</a:t>
            </a:r>
            <a:endParaRPr b="1" lang="en-US" sz="36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4114800" y="55627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youtube.com/watch?v=UY75MQte4RU&amp;feature=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 Bold"/>
              </a:rPr>
              <a:t>Communicating Mean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"/>
              </a:rPr>
              <a:t>65% Non Verbal Component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ostur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Gestur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ximity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uscle Tension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acial Expression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4720" y="1371240"/>
            <a:ext cx="404172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"/>
              </a:rPr>
              <a:t>35% Verbal 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47960" y="2286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itch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Volum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flection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ac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Can We Agree?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533520" y="15238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o be actively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Valu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Agree to disa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Don’t take it pers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Stay focused on established purpos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efrain from conducting ‘side ba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4960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 Bold"/>
              </a:rPr>
              <a:t>Communication Knowledge and Skills for Effective Coach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066320" y="22856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Paralanguag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Response Behavior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Structur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Mediative Questio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Paralanguage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Nonverbal &amp; Verbal Cue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ostur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Gestur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flec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itch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ate of Speech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anguage Choice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Response Behavior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294920" y="16002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ilence</a:t>
            </a: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cknowledg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roviding Data &amp; Resource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Structuring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 coach clearly communicates expectations about purposes and the use of such resources as time, space, and materials.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xpectations should be based on a common understanding of the purposes for the coaching, the roles the coach should play, time allotments, and placement of the coach during observation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Mediative Questioning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Questions are intentionally designed to engage and transform thinking and perspective.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Questions must meet three criteria: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vitational in form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ngage complex cognitive processe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tentional 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1224720" y="1371600"/>
            <a:ext cx="65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“</a:t>
            </a:r>
            <a:r>
              <a:rPr b="1" i="1" lang="en-US" sz="18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It’s not the answers that enlighten us, but the question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1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rIns="129240" anchor="ctr">
            <a:noAutofit/>
          </a:bodyPr>
          <a:p>
            <a:pPr marL="38160" indent="0" algn="ctr">
              <a:buNone/>
              <a:tabLst>
                <a:tab algn="l" pos="0"/>
                <a:tab algn="l" pos="38160"/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8780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816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Judgmental vs. </a:t>
            </a:r>
            <a:br>
              <a:rPr sz="4000"/>
            </a:b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Non-Judgmental Question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868680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73E5-F9A5-491A-83FF-0D25C39581E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22856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rIns="129240" anchor="t">
            <a:normAutofit/>
          </a:bodyPr>
          <a:p>
            <a:pPr marL="266760" indent="-266760">
              <a:lnSpc>
                <a:spcPct val="90000"/>
              </a:lnSpc>
              <a:tabLst>
                <a:tab algn="l" pos="0"/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tabLst>
                <a:tab algn="l" pos="0"/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Why did you do it that way?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Arial"/>
              <a:buChar char="•"/>
              <a:tabLst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What would you do differently next time if you could?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Arial"/>
              <a:buChar char="•"/>
              <a:tabLst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69920" y="6676920"/>
            <a:ext cx="199800" cy="1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962"/>
                </a:solidFill>
                <a:latin typeface="Arial Bold"/>
              </a:rPr>
              <a:t>Let’s Practice Question Development</a:t>
            </a:r>
            <a:endParaRPr b="1" lang="en-US" sz="36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AE9D-DCFE-45BC-A401-F046F6F5E4D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57200" y="4038480"/>
            <a:ext cx="8458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 the statement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ly write down the first 3 questions that come to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5720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 anything that is tending towards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5720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on the thinking to change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5720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e now with your table buddies to put together a 'top 5' list of appropriat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2"/>
          <p:cNvGrpSpPr/>
          <p:nvPr/>
        </p:nvGrpSpPr>
        <p:grpSpPr>
          <a:xfrm>
            <a:off x="1523880" y="1219320"/>
            <a:ext cx="3048120" cy="838080"/>
            <a:chOff x="1523880" y="1219320"/>
            <a:chExt cx="3048120" cy="838080"/>
          </a:xfrm>
        </p:grpSpPr>
        <p:sp>
          <p:nvSpPr>
            <p:cNvPr id="491" name="AutoShape 13"/>
            <p:cNvSpPr/>
            <p:nvPr/>
          </p:nvSpPr>
          <p:spPr>
            <a:xfrm>
              <a:off x="1523880" y="1219320"/>
              <a:ext cx="3048120" cy="838080"/>
            </a:xfrm>
            <a:custGeom>
              <a:avLst/>
              <a:gdLst>
                <a:gd name="textAreaLeft" fmla="*/ 0 w 3048120"/>
                <a:gd name="textAreaRight" fmla="*/ 3048480 w 30481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6943"/>
                  </a:lnTo>
                  <a:lnTo>
                    <a:pt x="0" y="9918"/>
                  </a:lnTo>
                  <a:lnTo>
                    <a:pt x="0" y="11902"/>
                  </a:lnTo>
                  <a:lnTo>
                    <a:pt x="12600" y="11902"/>
                  </a:lnTo>
                  <a:lnTo>
                    <a:pt x="10831" y="21600"/>
                  </a:lnTo>
                  <a:lnTo>
                    <a:pt x="18000" y="11902"/>
                  </a:lnTo>
                  <a:lnTo>
                    <a:pt x="21600" y="11902"/>
                  </a:lnTo>
                  <a:lnTo>
                    <a:pt x="21600" y="9918"/>
                  </a:lnTo>
                  <a:lnTo>
                    <a:pt x="21600" y="6943"/>
                  </a:lnTo>
                  <a:lnTo>
                    <a:pt x="21600" y="0"/>
                  </a:lnTo>
                  <a:lnTo>
                    <a:pt x="18000" y="0"/>
                  </a:lnTo>
                  <a:lnTo>
                    <a:pt x="1260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2310120" y="1220040"/>
              <a:ext cx="1227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482760"/>
                  <a:tab algn="l" pos="939960"/>
                  <a:tab algn="l" pos="1384200"/>
                  <a:tab algn="l" pos="1828800"/>
                  <a:tab algn="l" pos="2286000"/>
                  <a:tab algn="l" pos="2730600"/>
                  <a:tab algn="l" pos="3187800"/>
                  <a:tab algn="l" pos="3632040"/>
                  <a:tab algn="l" pos="4076640"/>
                  <a:tab algn="l" pos="4533840"/>
                  <a:tab algn="l" pos="4978440"/>
                  <a:tab algn="l" pos="5423040"/>
                  <a:tab algn="l" pos="5880240"/>
                  <a:tab algn="l" pos="6324480"/>
                  <a:tab algn="l" pos="6781680"/>
                  <a:tab algn="l" pos="7226280"/>
                  <a:tab algn="l" pos="7670880"/>
                  <a:tab algn="l" pos="8128080"/>
                  <a:tab algn="l" pos="8572680"/>
                  <a:tab algn="l" pos="9016920"/>
                  <a:tab algn="l" pos="902988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in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6"/>
          <p:cNvGrpSpPr/>
          <p:nvPr/>
        </p:nvGrpSpPr>
        <p:grpSpPr>
          <a:xfrm>
            <a:off x="5638680" y="1143000"/>
            <a:ext cx="2667240" cy="1066680"/>
            <a:chOff x="5638680" y="1143000"/>
            <a:chExt cx="2667240" cy="1066680"/>
          </a:xfrm>
        </p:grpSpPr>
        <p:sp>
          <p:nvSpPr>
            <p:cNvPr id="494" name="AutoShape 7"/>
            <p:cNvSpPr/>
            <p:nvPr/>
          </p:nvSpPr>
          <p:spPr>
            <a:xfrm>
              <a:off x="5638680" y="1143000"/>
              <a:ext cx="2667240" cy="1066680"/>
            </a:xfrm>
            <a:custGeom>
              <a:avLst/>
              <a:gdLst>
                <a:gd name="textAreaLeft" fmla="*/ 0 w 2667240"/>
                <a:gd name="textAreaRight" fmla="*/ 2667600 w 26672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6558"/>
                  </a:lnTo>
                  <a:lnTo>
                    <a:pt x="0" y="9369"/>
                  </a:lnTo>
                  <a:lnTo>
                    <a:pt x="0" y="11242"/>
                  </a:lnTo>
                  <a:lnTo>
                    <a:pt x="3600" y="11242"/>
                  </a:lnTo>
                  <a:lnTo>
                    <a:pt x="2127" y="21600"/>
                  </a:lnTo>
                  <a:lnTo>
                    <a:pt x="9000" y="11242"/>
                  </a:lnTo>
                  <a:lnTo>
                    <a:pt x="21600" y="11242"/>
                  </a:lnTo>
                  <a:lnTo>
                    <a:pt x="21600" y="9369"/>
                  </a:lnTo>
                  <a:lnTo>
                    <a:pt x="21600" y="6558"/>
                  </a:lnTo>
                  <a:lnTo>
                    <a:pt x="21600" y="0"/>
                  </a:lnTo>
                  <a:lnTo>
                    <a:pt x="9000" y="0"/>
                  </a:lnTo>
                  <a:lnTo>
                    <a:pt x="360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8"/>
            <p:cNvSpPr/>
            <p:nvPr/>
          </p:nvSpPr>
          <p:spPr>
            <a:xfrm>
              <a:off x="6478200" y="1201680"/>
              <a:ext cx="80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482760"/>
                  <a:tab algn="l" pos="939960"/>
                  <a:tab algn="l" pos="1384200"/>
                  <a:tab algn="l" pos="1828800"/>
                  <a:tab algn="l" pos="2286000"/>
                  <a:tab algn="l" pos="2730600"/>
                  <a:tab algn="l" pos="3187800"/>
                  <a:tab algn="l" pos="3632040"/>
                  <a:tab algn="l" pos="4076640"/>
                  <a:tab algn="l" pos="4533840"/>
                  <a:tab algn="l" pos="4978440"/>
                  <a:tab algn="l" pos="5423040"/>
                  <a:tab algn="l" pos="5880240"/>
                  <a:tab algn="l" pos="6324480"/>
                  <a:tab algn="l" pos="6781680"/>
                  <a:tab algn="l" pos="7226280"/>
                  <a:tab algn="l" pos="7670880"/>
                  <a:tab algn="l" pos="8128080"/>
                  <a:tab algn="l" pos="8572680"/>
                  <a:tab algn="l" pos="9016920"/>
                  <a:tab algn="l" pos="902988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ss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3657600" y="2895480"/>
            <a:ext cx="2895480" cy="1067040"/>
            <a:chOff x="3657600" y="2895480"/>
            <a:chExt cx="2895480" cy="1067040"/>
          </a:xfrm>
        </p:grpSpPr>
        <p:sp>
          <p:nvSpPr>
            <p:cNvPr id="497" name="AutoShape 10"/>
            <p:cNvSpPr/>
            <p:nvPr/>
          </p:nvSpPr>
          <p:spPr>
            <a:xfrm>
              <a:off x="3657600" y="2895480"/>
              <a:ext cx="2895480" cy="10670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726"/>
                  </a:moveTo>
                  <a:lnTo>
                    <a:pt x="0" y="15038"/>
                  </a:lnTo>
                  <a:lnTo>
                    <a:pt x="0" y="17007"/>
                  </a:lnTo>
                  <a:lnTo>
                    <a:pt x="0" y="21600"/>
                  </a:lnTo>
                  <a:lnTo>
                    <a:pt x="12600" y="21600"/>
                  </a:lnTo>
                  <a:lnTo>
                    <a:pt x="18000" y="21600"/>
                  </a:lnTo>
                  <a:lnTo>
                    <a:pt x="21600" y="21600"/>
                  </a:lnTo>
                  <a:lnTo>
                    <a:pt x="21600" y="17007"/>
                  </a:lnTo>
                  <a:lnTo>
                    <a:pt x="21600" y="15038"/>
                  </a:lnTo>
                  <a:lnTo>
                    <a:pt x="21600" y="13726"/>
                  </a:lnTo>
                  <a:lnTo>
                    <a:pt x="18000" y="13726"/>
                  </a:lnTo>
                  <a:lnTo>
                    <a:pt x="14973" y="0"/>
                  </a:lnTo>
                  <a:lnTo>
                    <a:pt x="12600" y="13726"/>
                  </a:lnTo>
                  <a:close/>
                  <a:moveTo>
                    <a:pt x="0" y="13726"/>
                  </a:move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1"/>
            <p:cNvSpPr/>
            <p:nvPr/>
          </p:nvSpPr>
          <p:spPr>
            <a:xfrm>
              <a:off x="4443120" y="3583080"/>
              <a:ext cx="1212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r">
                <a:tabLst>
                  <a:tab algn="l" pos="0"/>
                  <a:tab algn="l" pos="38160"/>
                  <a:tab algn="l" pos="482760"/>
                  <a:tab algn="l" pos="939960"/>
                  <a:tab algn="l" pos="1384200"/>
                  <a:tab algn="l" pos="1828800"/>
                  <a:tab algn="l" pos="2286000"/>
                  <a:tab algn="l" pos="2730600"/>
                  <a:tab algn="l" pos="3187800"/>
                  <a:tab algn="l" pos="3632040"/>
                  <a:tab algn="l" pos="4076640"/>
                  <a:tab algn="l" pos="4533840"/>
                  <a:tab algn="l" pos="4978440"/>
                  <a:tab algn="l" pos="5423040"/>
                  <a:tab algn="l" pos="5880240"/>
                  <a:tab algn="l" pos="6324480"/>
                  <a:tab algn="l" pos="6781680"/>
                  <a:tab algn="l" pos="7226280"/>
                  <a:tab algn="l" pos="7670880"/>
                  <a:tab algn="l" pos="8128080"/>
                  <a:tab algn="l" pos="8572680"/>
                  <a:tab algn="l" pos="9016920"/>
                  <a:tab algn="l" pos="902988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Box 24"/>
          <p:cNvSpPr/>
          <p:nvPr/>
        </p:nvSpPr>
        <p:spPr>
          <a:xfrm>
            <a:off x="1125360" y="2133720"/>
            <a:ext cx="70351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6200" indent="-338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“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’d really like to be less stressed at wor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38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ut the tasks just keep piling up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28954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9900"/>
                </a:solidFill>
                <a:latin typeface="Arial Bold"/>
              </a:rPr>
              <a:t>The Cognitive Coaching Cycle</a:t>
            </a:r>
            <a:br>
              <a:rPr sz="4200"/>
            </a:br>
            <a:br>
              <a:rPr sz="4200"/>
            </a:b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Diagram 10" descr=""/>
          <p:cNvPicPr/>
          <p:nvPr/>
        </p:nvPicPr>
        <p:blipFill>
          <a:blip r:embed="rId1"/>
          <a:stretch/>
        </p:blipFill>
        <p:spPr>
          <a:xfrm>
            <a:off x="378000" y="1279440"/>
            <a:ext cx="8546760" cy="50608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77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Three Phases of the Proces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Planning Conversations</a:t>
            </a:r>
            <a:br>
              <a:rPr sz="4200"/>
            </a:br>
            <a:r>
              <a:rPr b="1" i="1" lang="en-US" sz="2400" spc="-1" strike="noStrike">
                <a:solidFill>
                  <a:srgbClr val="40cf00"/>
                </a:solidFill>
                <a:latin typeface="Arial Bold"/>
              </a:rPr>
              <a:t>Pre-conference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Planning Map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larifying Goal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etermining the success indicator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nticipating approaches, strategies and decision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dentifying a personal learning focu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flecting on the coaching proces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29040" indent="-3290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Outcome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609480" y="1371600"/>
            <a:ext cx="8001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cf00"/>
                </a:solidFill>
                <a:latin typeface="Arial"/>
                <a:ea typeface="ＭＳ Ｐゴシック"/>
              </a:rPr>
              <a:t>Participants wi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express and determine how the Cognitive Coaching  process can be used in their current r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dentify and apply the skills needed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o be an effective c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understand the Cognitive Coaching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apply their new knowledge of Cognitive Coaching strategies to various sce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962"/>
                </a:solidFill>
                <a:latin typeface="Arial Bold"/>
              </a:rPr>
              <a:t>The Event</a:t>
            </a:r>
            <a:br>
              <a:rPr sz="4400"/>
            </a:br>
            <a:r>
              <a:rPr b="1" i="1" lang="en-US" sz="2400" spc="-1" strike="noStrike">
                <a:solidFill>
                  <a:srgbClr val="40cf00"/>
                </a:solidFill>
                <a:latin typeface="Arial Bold"/>
              </a:rPr>
              <a:t>Observation 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09120" y="20570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ook for indicators of succes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ook for the effectiveness of approaches, strategies, and decisions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llect data as deemed necessary during the pre-conferenc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Reflecting Conversations</a:t>
            </a:r>
            <a:br>
              <a:rPr sz="4200"/>
            </a:br>
            <a:r>
              <a:rPr b="1" i="1" lang="en-US" sz="2400" spc="-1" strike="noStrike">
                <a:solidFill>
                  <a:srgbClr val="40cf00"/>
                </a:solidFill>
                <a:latin typeface="Arial Bold"/>
              </a:rPr>
              <a:t>Post-conference 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560" y="1752480"/>
            <a:ext cx="83055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Reflecting Map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ummary of impression and recalling supporting informa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alyze causal factors that impacted the ev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nstruct new lear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mmit to the applica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flect on coaching process and design refinem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15360" indent="-31536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838080"/>
          </a:xfrm>
          <a:prstGeom prst="rect">
            <a:avLst/>
          </a:prstGeom>
          <a:noFill/>
          <a:ln w="38160">
            <a:solidFill>
              <a:srgbClr val="8dc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Cognitive Coaching Practice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cf00"/>
                </a:solidFill>
                <a:latin typeface="Arial"/>
                <a:ea typeface="Arial"/>
              </a:rPr>
              <a:t>Person A – Observer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ay attention the verbal and non-verbal behaviors of the coach.  Record your observations.)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Person B – Coach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Person C – Colleague or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Par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512" name="Picture 1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27763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A colleague says to you, “I’ve done everything I know to do and this teacher is still having difficulty with classroom management.”</a:t>
            </a: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  <a:p>
            <a:pPr marL="6094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609480"/>
            <a:ext cx="8153280" cy="12160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ole Play Scenario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533160" y="23619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A parent comes to the principal and says, “I’ve had it with that teacher! I want my child taken out of her class </a:t>
            </a:r>
            <a:r>
              <a:rPr b="1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TODAY</a:t>
            </a:r>
            <a:r>
              <a:rPr b="0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!”</a:t>
            </a: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609480"/>
            <a:ext cx="8001000" cy="12160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ole Play Scenario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old"/>
              </a:rPr>
              <a:t>Role Play Scenario #3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440" y="21333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57e"/>
                </a:solidFill>
                <a:latin typeface="Arial"/>
              </a:rPr>
              <a:t>A colleague says to you, “I’ve been feeling overwhelmed with integrating the new Instructional Standards into my lessons. The students know more that I do.”</a:t>
            </a: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73962"/>
                </a:solidFill>
                <a:latin typeface="Arial Bold"/>
              </a:rPr>
              <a:t>Questions</a:t>
            </a:r>
            <a:endParaRPr b="1" lang="en-US" sz="54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520" name="Content Placeholder 3" descr="Question Button.JPG"/>
          <p:cNvPicPr/>
          <p:nvPr/>
        </p:nvPicPr>
        <p:blipFill>
          <a:blip r:embed="rId1"/>
          <a:stretch/>
        </p:blipFill>
        <p:spPr>
          <a:xfrm>
            <a:off x="2057400" y="1905120"/>
            <a:ext cx="505764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7e"/>
                </a:solidFill>
                <a:latin typeface="Arial Bold"/>
              </a:rPr>
              <a:t>Session Evaluation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Visit: </a:t>
            </a:r>
            <a:r>
              <a:rPr b="1" lang="en-US" sz="3200" spc="-1" strike="noStrike">
                <a:solidFill>
                  <a:srgbClr val="173962"/>
                </a:solidFill>
                <a:latin typeface="Arial"/>
              </a:rPr>
              <a:t>http://region1rttt.wikispaces.com/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Complete the ticket out the door at the end of the trai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40c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Reference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3520" y="1676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Costa, A. L., &amp; Garmston, R. J. (2002).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Cognitive Coaching: A foundation for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renaissance schools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 (2</a:t>
            </a:r>
            <a:r>
              <a:rPr b="0" lang="en-US" sz="1700" spc="-1" strike="noStrike" baseline="30000">
                <a:solidFill>
                  <a:srgbClr val="173962"/>
                </a:solidFill>
                <a:latin typeface="Arial"/>
              </a:rPr>
              <a:t>nd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 ed.). Norwood, MA: Christopher-Gordon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Ellison, J., &amp; Hayes, C. (2006). Effective School Leadership: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Developing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Principals through Cognitive Coaching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. Norwood, MA: Christopher-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Gordon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Tschannen-Moran, B., Tschannen-Moran, M. (2011). The Coach and the 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Evaluator.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Educational Leadership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, 69,10-16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Knight, J. (2011). What Good Coaches Do. Educational Leadership,  69, 18-22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Aguilar, E., Goldwasser, D., &amp; Tank-Crestetto, K. (2011).  Supporting   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Principals Transforming Schools.  Educational Leadership, 69, 70-76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 Bold"/>
              </a:rPr>
              <a:t>Web Resources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09120" y="15998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962"/>
                </a:solidFill>
                <a:latin typeface="Arial"/>
              </a:rPr>
              <a:t>http://www.pd360.com/pd360.cfm#tab=home&amp;page=homeWall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962"/>
                </a:solidFill>
                <a:latin typeface="Arial"/>
              </a:rPr>
              <a:t>http://www.youtube.com/watch?v=UY75MQte4RU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www.gr8education.com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businessballs.com/johariwindowmodeldiagram.pdf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coachingnetwork.org.uk/resourcecentre/whatarecoachingandmentoring.htm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sites.google.com/site/group2presentation/home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svsd410.org/CCS/Cognitive%20Coaching.asp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cognitivecoaching.com/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cls.utk.edu/pdf/ls/Week2_Lesson12.pdf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youtube.com/watch?v=isiSOeMVJQk&amp;feature=BFa&amp;list=ULvfxFSvDvSqA&amp;lf=mfu_in_order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What Do You Know About Cognitive Coaching?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316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ndividually and silently think about the question abov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dentify what you already know about Cognitive Coaching and write your ideas on sticky notes       (1 thought per note)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hare your ideas with the group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7e"/>
                </a:solidFill>
                <a:latin typeface="Arial Bold"/>
              </a:rPr>
              <a:t>Contact Information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440" y="17524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Beth Edwards, PD Lead, Region 1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73962"/>
                </a:solidFill>
                <a:latin typeface="Arial"/>
              </a:rPr>
              <a:t>elizabeth.edwards@dpi.nc.gov (252) 916-6842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Dianne Meiggs, PD Lead, Region 1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73962"/>
                </a:solidFill>
                <a:latin typeface="Arial"/>
              </a:rPr>
              <a:t>dianne.meiggs@dpi.nc.gov  (252) 340-0113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The Mission of Cognitive Coach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914400" y="22860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“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o produce self-directed persons with cognitive capacity for high performance both independently and as members of a communit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Costa and Garm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962"/>
                </a:solidFill>
                <a:latin typeface="Arial Bold"/>
              </a:rPr>
              <a:t>What is Cognitive Coaching?</a:t>
            </a:r>
            <a:endParaRPr b="1" lang="en-US" sz="36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20570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 practice based on the idea that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metacogni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 practice which provides personal insights into the learner’s own thinking processe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962"/>
                </a:solidFill>
                <a:latin typeface="Arial Bold"/>
              </a:rPr>
              <a:t>What is Cognitive Coaching? </a:t>
            </a:r>
            <a:r>
              <a:rPr b="1" i="1" lang="en-US" sz="2400" spc="-1" strike="noStrike">
                <a:solidFill>
                  <a:srgbClr val="173962"/>
                </a:solidFill>
                <a:latin typeface="Arial Bold"/>
              </a:rPr>
              <a:t>(cont’d)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09120" y="15238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962"/>
                </a:solidFill>
                <a:latin typeface="Arial"/>
              </a:rPr>
              <a:t>A way of thinking and communicating which: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Enhances understanding and higher level thinking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Helps others become their own problem-solvers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Creates collaborative rather than dependent relationships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Develops genuine trust and rapport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Support others in feeling competent in challenging work environments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"/>
              </a:rPr>
              <a:t>Research Based Benefits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8288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1739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Coaching is linked wit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igher test scores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1739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Teachers who are coached report higher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acher efficacy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1739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Teachers who are coached demonstrate mor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flective, complex thinking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about their practice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962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. Coached teachers report higher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ob satisfaction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5. Coaching schools have higher self-ratings for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fessionalism 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6. Coaching schools have mor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7. Coached teachers report feeling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re supported professional and personally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01840" cy="1295640"/>
          </a:xfrm>
          <a:prstGeom prst="rect">
            <a:avLst/>
          </a:prstGeom>
          <a:ln w="0">
            <a:noFill/>
          </a:ln>
        </p:spPr>
      </p:pic>
      <p:sp>
        <p:nvSpPr>
          <p:cNvPr id="3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6FD1-B432-48E9-A02B-2C18285F3F7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4:14:23Z</dcterms:created>
  <dc:creator>Admin</dc:creator>
  <dc:description/>
  <dc:language>en-US</dc:language>
  <cp:lastModifiedBy>eedwards</cp:lastModifiedBy>
  <cp:lastPrinted>2011-01-21T14:46:16Z</cp:lastPrinted>
  <dcterms:modified xsi:type="dcterms:W3CDTF">2012-01-09T02:39:55Z</dcterms:modified>
  <cp:revision>381</cp:revision>
  <dc:subject/>
  <dc:title>Slide 1</dc:title>
</cp:coreProperties>
</file>